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CAAF-3886-4B4B-B31F-F480552CE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ED8A-E8CD-4DA7-8C7D-998C5CD27D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7779-ABFF-4092-97A8-4B33BE6B84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1B7-20E4-44DD-A934-10CE799F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5BF-80D2-4537-AEE8-CA2AD904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A3E36-2E0D-4B64-AC71-77E8DC15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E5E6F-569C-4225-9766-7E323CA7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F6B86-996B-48B9-8A05-E3C44DA1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6F82D-52C1-42DF-BFD9-1E75EA0C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5AF6D-E9FC-41F5-BCF8-98A1122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01D8A-496E-4B3B-89BA-735843F0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C4D21-AC83-4C38-8FC5-BEA0190A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E03B8-C7C1-46DA-A663-85DCBCE0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9289D-A5C1-4526-815A-26B4C7ED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66615-1597-4C8E-87D5-E170832A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A3F-2F2C-4313-B745-51D1FC3F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C5848-08AA-4DE8-86C0-815D4406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6016C-FDEF-476B-8F20-C9B7EC95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04A5A-4A94-4467-8231-80B11531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E48C3-8442-4766-8922-1E6B561B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22473-0F74-4A03-8469-EC6DA5E5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22B76-742A-4EFC-ADA2-47B47431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EF9D4-3F79-4ECB-BE4C-C3B4E644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100C9-D473-42DB-B488-AFBF858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C32D3-A714-4D25-9A14-396E0351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F1C68-9510-4786-B12D-6321038C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F64-4C39-402C-A61A-1F555A80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F1F6F-FC27-4853-9F09-65A74B52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F8545-7D71-401B-A853-568D7F33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FC8EC-ABD0-495B-957A-1C921113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E1F45-BA33-42D6-81EE-29C18A8A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5B572-99AF-4F46-9FCB-9D7764A2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32A4E-8B5C-4CEB-9CC7-280819DE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DB459-B0E3-4D5A-962A-356DBB28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A4E6C-85BA-4E7B-9E3B-E2437F96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0CC58-173D-4DF5-A099-9A07F9FE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2206C-762A-4B4C-ABAB-1CC9202D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DF8E-F576-471C-A513-48D8AE27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DCEDC-4658-4EF6-8FC3-4D6BF4A2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5D8A4-6F6C-422F-BF44-2524827D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798CE-8982-4F9E-B30B-C7DC5B2C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F6D21-CA42-41DA-AD22-1D1FB704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5A6A2-E535-489F-928B-405D42C7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952E0-1083-4164-BC81-0057E690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EEFC2-93DD-4986-A835-227AA1C7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4D533-0C68-4A39-A40F-7991BD41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9395C-58DC-4B42-8AB2-0F14D211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D956F-942F-4B7A-BEA4-9CC29B3E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1C0D-70F1-4168-84EC-8B03012B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D08FC-EFC7-4995-93CA-8A559318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084E3-8182-4864-AA0A-330CB39D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CAD90-FC16-4381-B9A0-EE6AF6F3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F0C94-AA61-4CEF-9607-BC2D3777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DD99C-DEA4-4262-BFE4-709BE392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BD6A8-29E1-4980-810B-61E5B33C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75918-DF65-483A-B04F-69C50FF9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9F68F-175D-4F93-8D37-C92B4A0D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B46FB-D794-463F-BFD1-B1640A5C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DAC68-DC7A-4F94-A374-BFA16738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1AFF-4072-4A48-BD5C-874D2806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0C7CA-EB00-4A03-881C-82CBC614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43C67-E947-4639-ADFC-78791E64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CCF65-12F2-4FD2-80AD-85A59D9F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8783C-5E92-4947-B5AC-A80DB855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0AF20-EC1F-48A5-92AE-059BF0DC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FDE4B-4F58-4D95-85F3-BA9B8AEB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7AB58-09FB-45EB-91F1-D8F94AC0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A1F09-31C3-4B87-8CA7-9A24F4FC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E07BC-A3C5-4B4D-849D-720C38C8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51983-2903-42DF-A0E0-30382B99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F803-4C63-4124-A97C-51DECE7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6614FD-73E3-413F-A079-7969AC95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8B641-BCED-4D6C-964B-C00747F7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FF883-AA91-4101-B7FE-133929F3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7FE0D-2A35-4F31-8EA1-ABCF8094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683EA-6ECF-45F1-BE14-4B32AD99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7DE45-A348-4217-AEFB-B8FD2290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9CB3B-7832-46E1-8917-87857B34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CA1EF-EA26-484F-AF33-38640D8D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5129E-A67B-4714-878B-0523509A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F0F59-7C93-4C87-ABC8-23C9A855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0795-DD2B-4F4F-9203-40464FEF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FF982F-9738-4FB8-8A3F-99076C1D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8DDA3F-0ABA-45D0-977C-8A0BC2AF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34281-6996-47DB-9FDF-8D75556F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8FB75-B170-4AB1-8E58-3B4FBADC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7EFC5-5DB8-4BDA-87D3-EF2BCC40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42166-3C3D-4F79-853B-9C1B9E1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702804-9B27-4939-B548-5212FE75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6BCDE-AC63-421A-87B5-6DD3C89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77700-701F-4D0F-A37A-E3335E2D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7E7AFA-337B-497C-BB22-3541C150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0054-0AA7-4005-85B0-B923610C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5C792-9E5E-45CC-83CF-01240703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BD1075-3FD7-4D95-8BE2-7105217E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F4013E-164C-4F0B-89E9-6084D9F8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400BC-FE61-4728-A540-173B8785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25C3A-012A-4974-BD9F-F091AAF5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0A525-799B-4774-BEAB-83FEE39C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DB889-D211-4F17-B1B2-721C45C0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B9886-3F5D-4C8E-AD9E-92DCE9EF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52D8B-6A35-479B-93EA-D244A91E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B8B46-4236-4BE1-AD99-DF598AAF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0B48-6B47-477B-A557-A11D8C7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EA24F-D343-4017-8192-C28E24A7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DD311-4F32-421F-B2B4-2448B573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ECB7A-364A-4C5C-80F3-C64E2D93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4581C3-44CF-4FD3-BF4E-116C4F92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47A5E9-1865-42AB-96F4-9397D1F6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50A26-7D41-4F92-80D1-5FC064B1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F6F57-D78D-4ACC-A991-45C6391D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E093E-4D84-48A4-BA4B-F3C6E509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F9B25-EF0F-4AC9-8FF8-3E364C79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F6A07-F0B4-41B1-9381-1EF993EC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2CD-1FD5-4A67-94B6-BBE7A5F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4F8F-9FD0-475A-9BF7-22E172C0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FBCE0-1493-4765-B25D-01B0A22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D6EA58-0A1B-48E4-AD1E-CB4F9DB9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A2D0B8-C0E0-4FC9-833C-21798F0F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0F01B-F582-494C-9827-B011E894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FE95D-F986-4173-9854-E05789E2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F2DF16-EAE0-4B60-8405-77160B69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EC039-490B-4AA1-952A-7EA2066F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963062-EE9B-480D-8498-DC924BD9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E00E5-F686-499B-A104-2BE9BA00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C24F7-0BAE-45EF-8C98-0800DE74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AF11-457A-4553-ADF3-EA0ED103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D8D38-DCAC-40B5-9DAF-6D841C69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10CE4C-26D8-4E61-8A04-C8DACC30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1F049-19C8-4F60-86F7-20A6B81B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1C5C7-C0BC-49E8-A5A1-5F10E5D2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9654C-82DA-4A64-B172-05585251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C4A5D-8897-4FF3-8EE4-08A287E4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BD9EC-582E-4306-9C08-32C1EBB5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FADA-E1F6-4F47-A511-EF2CB7BE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F08E-3758-4790-B0ED-06C9B8BA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D898-1370-4559-9D8D-17E6D602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E44D-9F62-4636-8E86-DB9E4590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8FD5-B89D-4CF3-9207-56C73056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5224-BEDE-41F4-877E-6763F9B6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69D45-E427-492F-9864-452CF525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3024-A980-4A2E-A1B5-58693538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721-9B20-4250-A5A8-BA2B4EF7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5FAF-A29F-477F-AC1C-3001CEEE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B6B8-B90D-418C-B35A-D7C98C17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C3EE-42C1-4919-8C27-95BC45E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F9C23-5BD1-4BA5-AB93-DB4D4211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9E8E9-B9A6-42F4-9FD4-428FD2B3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9571-43E4-4F10-A203-E8CE23AA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B114-E104-404C-ABFA-EED2B1DA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72F7F-6376-4C4E-9596-D6C7BE68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D3EEC-C001-40A1-A09D-58DAFD98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1D663-FD05-4D47-807E-23CD3369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E04-8BE7-4C60-B8FC-FAD6127E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7502C-8AF3-40DF-AFB3-EEEAE300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3631-5B14-4B25-B896-4274CDDF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E2E00-292F-438C-B225-C5DBEA5A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3636-553B-4A62-9B6A-B0847D04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2D50D-4ABD-44AB-81E9-F0E07FF7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09D2-683D-49E7-90D1-31BD4B16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754B4-B9F7-4278-BFCB-53FC0771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257D1-BF06-4DA7-8AA3-0488251D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96676-636F-4244-A411-448456DB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CBAAA-CB5D-476D-B119-AF8D19F1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E43-2B5F-46E1-B4EE-1BC608B1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990B-F8C7-482D-8375-6117D1CF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5799A-2414-48B6-A300-E0015456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51992-9D1A-4BF2-B4C0-EF377DD8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009D4-3BF7-430C-844C-4EF19505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01F5B-62CF-4122-A75F-1374506C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BEF4A-F985-4575-AE3E-598FA2C8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C12D2-2EA5-442D-9B77-C6A5F37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4F52A-ABFE-474F-BDFE-531CA7D1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6608F-FFB5-4DE4-A66C-3805BD36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E4D4F-B79C-4EE0-ABCC-9AA21B22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BC5-FCA6-41A7-A979-DCE69353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0EA50-93C8-4F35-8F1E-75FA779A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72A3A-263E-4960-A33A-2713F555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A9FFB-908B-42F8-980E-5902162F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99640-3359-44CA-9D66-622A9C79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C39EA-CF02-4868-9C4E-DF13D30B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E5FA2-B940-4F89-85AF-61B0D4A0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B6B30-A4A3-4AA3-8289-43A2F09F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4E28B-194A-45A6-87C4-7E3E96F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53471-B02C-44DA-AD9F-C12FE334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79778-D1B2-4525-9F7B-4F243DC3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B22-32E5-4FCD-A60C-46C84ABF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FE2E-11F8-42C0-96C0-3BF1ADA1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04197-3A17-435F-9EAF-D36F46BA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BDDB-1317-4AB3-9B1E-30E507D6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2A145-697F-4EEB-80AE-3FF7471B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AC2C4-9EF9-419E-876A-49F17CAE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42F78-D44F-47FC-9BF1-A99FCC0C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E3D4B-26FB-4EB1-97DA-55BF21C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2ABAB-0BAA-450A-AD4E-531B8071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5E695-5066-4687-A589-D0338DAC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2725A-F43C-4B98-B4E5-3E922269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D44-9F78-4B35-B6C1-09ABE1A6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200EA-EC1B-4CF1-ADBE-9938D5DC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7E6FB-2DFE-4722-AA16-DA79D60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C3980-69E9-404A-95BC-A2265895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E2AA5-F0D6-45AC-B716-175B5680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8D649-B61C-4D4D-957D-E5E995A6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1C19C-E2D3-44B7-825B-D8A7D71A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31B33-9992-45F1-A524-8A2E316D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5567B-FBDA-47F5-B402-FBBFB25F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A7D49-5C1A-4095-BDD9-DEC444F4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40716-AB97-4504-A77C-2EB8F47F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F2F-8C20-4F14-BEA1-E21DFD47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F02CD-DD81-4F1B-BF93-9594E622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FD643-F836-48C6-AD1B-2DA71BBB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FA95-B1D5-4BF5-B1F4-0DB482A4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F79C6-6328-442E-8101-B9515BCB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2308C-3C8B-4F81-94C6-9A519BFC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1F703-A11D-43B1-9DF4-3B0D26FC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E09D1-8CF5-439A-9045-3412B1DB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4BA01-C216-4AFB-A86E-BEB2FF6E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589B7-10C4-4DA0-B10D-8D487F3B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0CD6F-AFA3-41AF-A7FA-E851D307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15C-E43E-4C06-81DD-E85C07BF4FED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498C-3E6D-401B-895A-F1B70619B8B2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BA95-E14A-4124-B71D-E73EEAF1794E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90B3-55AC-4422-8059-55565C374292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2D40-60B9-4C66-8103-4A451A82F9B3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D712-EFFE-4085-BBB5-843BB9957DDB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AD7E-5B2B-406F-AB6D-0D33BB6D2D9D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4203-B944-4726-A335-C988DF679536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1145-14E8-4466-90C8-BA763964E550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8B6C-BF80-4F80-ADA0-212841995E55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EF8E-C019-45A3-AAF8-395B8085CD67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7AE7-C89D-4E38-8E68-7E6E601B137B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59A7-2630-4295-8BB2-C5CBB974C85E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D9B8-F8E6-43EB-ACB3-CDFE892488EF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BC57-638F-497D-899A-A2BDDF42E142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100-67E3-4AE5-A321-D518B4D14757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FE37-4E31-45C0-8B66-F56E23477179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CDA6-924D-433B-BBA3-FFC2841BC693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640872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Т</a:t>
            </a:r>
            <a:r>
              <a:rPr b="1" i="1" lang="uk-UA" sz="3600" spc="-1" strike="noStrike">
                <a:solidFill>
                  <a:srgbClr val="ffffff"/>
                </a:solidFill>
                <a:latin typeface="Trebuchet MS"/>
              </a:rPr>
              <a:t>ема: </a:t>
            </a:r>
            <a:r>
              <a:rPr b="1" i="1" lang="uk-UA" sz="4000" spc="-1" strike="noStrike">
                <a:solidFill>
                  <a:srgbClr val="ffffff"/>
                </a:solidFill>
                <a:latin typeface="Trebuchet MS"/>
              </a:rPr>
              <a:t>БУХГАЛТЕРСЬКИЙ БАЛАНС ПІДПРИЄМСТВ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5" name="Схема 1" descr=""/>
          <p:cNvPicPr/>
          <p:nvPr/>
        </p:nvPicPr>
        <p:blipFill>
          <a:blip r:embed="rId1"/>
          <a:stretch/>
        </p:blipFill>
        <p:spPr>
          <a:xfrm>
            <a:off x="1006560" y="4584600"/>
            <a:ext cx="6723000" cy="1779840"/>
          </a:xfrm>
          <a:prstGeom prst="rect">
            <a:avLst/>
          </a:prstGeom>
          <a:ln w="0">
            <a:noFill/>
          </a:ln>
        </p:spPr>
      </p:pic>
      <p:pic>
        <p:nvPicPr>
          <p:cNvPr id="846" name="Рисунок 1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2137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Схема 1" descr=""/>
          <p:cNvPicPr/>
          <p:nvPr/>
        </p:nvPicPr>
        <p:blipFill>
          <a:blip r:embed="rId1"/>
          <a:stretch/>
        </p:blipFill>
        <p:spPr>
          <a:xfrm>
            <a:off x="1036800" y="676440"/>
            <a:ext cx="7746840" cy="26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9" name=""/>
          <p:cNvGraphicFramePr/>
          <p:nvPr/>
        </p:nvGraphicFramePr>
        <p:xfrm>
          <a:off x="826920" y="3429000"/>
          <a:ext cx="7777440" cy="3319560"/>
        </p:xfrm>
        <a:graphic>
          <a:graphicData uri="http://schemas.openxmlformats.org/drawingml/2006/table">
            <a:tbl>
              <a:tblPr/>
              <a:tblGrid>
                <a:gridCol w="1260720"/>
                <a:gridCol w="1260360"/>
                <a:gridCol w="1511280"/>
                <a:gridCol w="2305080"/>
                <a:gridCol w="1440000"/>
              </a:tblGrid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Акт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Сума,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Пас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Сума,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</a:tr>
              <a:tr h="4320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Основні засоб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6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Статутний капіт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4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Матеріа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11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Прибут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194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519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Незавершене виробниц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Резервний капіт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431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Рахунки в бан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10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Кредити бан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4334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Ка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Постачальн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120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4312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Схема 1" descr=""/>
          <p:cNvPicPr/>
          <p:nvPr/>
        </p:nvPicPr>
        <p:blipFill>
          <a:blip r:embed="rId1"/>
          <a:stretch/>
        </p:blipFill>
        <p:spPr>
          <a:xfrm>
            <a:off x="1109520" y="1023840"/>
            <a:ext cx="7912080" cy="1182960"/>
          </a:xfrm>
          <a:prstGeom prst="rect">
            <a:avLst/>
          </a:prstGeom>
          <a:ln w="0">
            <a:noFill/>
          </a:ln>
        </p:spPr>
      </p:pic>
      <p:pic>
        <p:nvPicPr>
          <p:cNvPr id="871" name="Схема 2" descr=""/>
          <p:cNvPicPr/>
          <p:nvPr/>
        </p:nvPicPr>
        <p:blipFill>
          <a:blip r:embed="rId2"/>
          <a:stretch/>
        </p:blipFill>
        <p:spPr>
          <a:xfrm>
            <a:off x="0" y="2133720"/>
            <a:ext cx="824220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Схема 1" descr=""/>
          <p:cNvPicPr/>
          <p:nvPr/>
        </p:nvPicPr>
        <p:blipFill>
          <a:blip r:embed="rId1"/>
          <a:stretch/>
        </p:blipFill>
        <p:spPr>
          <a:xfrm>
            <a:off x="871560" y="262080"/>
            <a:ext cx="8028000" cy="146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3" name=""/>
          <p:cNvGraphicFramePr/>
          <p:nvPr/>
        </p:nvGraphicFramePr>
        <p:xfrm>
          <a:off x="468360" y="2421000"/>
          <a:ext cx="8280360" cy="3452760"/>
        </p:xfrm>
        <a:graphic>
          <a:graphicData uri="http://schemas.openxmlformats.org/drawingml/2006/table">
            <a:tbl>
              <a:tblPr/>
              <a:tblGrid>
                <a:gridCol w="2759040"/>
                <a:gridCol w="1343160"/>
                <a:gridCol w="2685960"/>
                <a:gridCol w="149220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Акт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Сума,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Пас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Сума,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початковий (БП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початко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Ка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+5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Рахунки в бан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-5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кінцевий (Б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кінчевий (Б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Схема 1" descr=""/>
          <p:cNvPicPr/>
          <p:nvPr/>
        </p:nvPicPr>
        <p:blipFill>
          <a:blip r:embed="rId1"/>
          <a:stretch/>
        </p:blipFill>
        <p:spPr>
          <a:xfrm>
            <a:off x="1116000" y="1847880"/>
            <a:ext cx="7772400" cy="4790880"/>
          </a:xfrm>
          <a:prstGeom prst="rect">
            <a:avLst/>
          </a:prstGeom>
          <a:ln w="0">
            <a:noFill/>
          </a:ln>
        </p:spPr>
      </p:pic>
      <p:pic>
        <p:nvPicPr>
          <p:cNvPr id="875" name="Рисунок 2" descr=""/>
          <p:cNvPicPr/>
          <p:nvPr/>
        </p:nvPicPr>
        <p:blipFill>
          <a:blip r:embed="rId2"/>
          <a:stretch/>
        </p:blipFill>
        <p:spPr>
          <a:xfrm>
            <a:off x="4067280" y="11160"/>
            <a:ext cx="264960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Схема 1" descr=""/>
          <p:cNvPicPr/>
          <p:nvPr/>
        </p:nvPicPr>
        <p:blipFill>
          <a:blip r:embed="rId1"/>
          <a:stretch/>
        </p:blipFill>
        <p:spPr>
          <a:xfrm>
            <a:off x="822240" y="165240"/>
            <a:ext cx="7931160" cy="17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7" name=""/>
          <p:cNvGraphicFramePr/>
          <p:nvPr/>
        </p:nvGraphicFramePr>
        <p:xfrm>
          <a:off x="250920" y="2349360"/>
          <a:ext cx="8569080" cy="3383280"/>
        </p:xfrm>
        <a:graphic>
          <a:graphicData uri="http://schemas.openxmlformats.org/drawingml/2006/table">
            <a:tbl>
              <a:tblPr/>
              <a:tblGrid>
                <a:gridCol w="2960640"/>
                <a:gridCol w="1324080"/>
                <a:gridCol w="2960640"/>
                <a:gridCol w="132372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Акт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Сума,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Пас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Сума,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початковий (БП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початко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Статутний капіт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+7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Прибут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-7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кінцевий (Б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кінце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Схема 1" descr=""/>
          <p:cNvPicPr/>
          <p:nvPr/>
        </p:nvPicPr>
        <p:blipFill>
          <a:blip r:embed="rId1"/>
          <a:stretch/>
        </p:blipFill>
        <p:spPr>
          <a:xfrm>
            <a:off x="1176480" y="835200"/>
            <a:ext cx="7948440" cy="5297400"/>
          </a:xfrm>
          <a:prstGeom prst="rect">
            <a:avLst/>
          </a:prstGeom>
          <a:ln w="0">
            <a:noFill/>
          </a:ln>
        </p:spPr>
      </p:pic>
      <p:pic>
        <p:nvPicPr>
          <p:cNvPr id="879" name="Рисунок 2" descr=""/>
          <p:cNvPicPr/>
          <p:nvPr/>
        </p:nvPicPr>
        <p:blipFill>
          <a:blip r:embed="rId2"/>
          <a:stretch/>
        </p:blipFill>
        <p:spPr>
          <a:xfrm>
            <a:off x="3203640" y="33336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Схема 2" descr=""/>
          <p:cNvPicPr/>
          <p:nvPr/>
        </p:nvPicPr>
        <p:blipFill>
          <a:blip r:embed="rId1"/>
          <a:stretch/>
        </p:blipFill>
        <p:spPr>
          <a:xfrm>
            <a:off x="1146240" y="182520"/>
            <a:ext cx="7802640" cy="15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1" name=""/>
          <p:cNvGraphicFramePr/>
          <p:nvPr/>
        </p:nvGraphicFramePr>
        <p:xfrm>
          <a:off x="179280" y="2708280"/>
          <a:ext cx="8709120" cy="2806560"/>
        </p:xfrm>
        <a:graphic>
          <a:graphicData uri="http://schemas.openxmlformats.org/drawingml/2006/table">
            <a:tbl>
              <a:tblPr/>
              <a:tblGrid>
                <a:gridCol w="2986200"/>
                <a:gridCol w="1368360"/>
                <a:gridCol w="2987640"/>
                <a:gridCol w="136692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Акт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Сума,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Пас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Сума,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b56b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початковий (БП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початковий (БП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5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Товари (нова статт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+2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Постачальн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+2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кінце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7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Баланс кінцевий (Б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879 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Схема 1" descr=""/>
          <p:cNvPicPr/>
          <p:nvPr/>
        </p:nvPicPr>
        <p:blipFill>
          <a:blip r:embed="rId1"/>
          <a:stretch/>
        </p:blipFill>
        <p:spPr>
          <a:xfrm>
            <a:off x="1163520" y="1268280"/>
            <a:ext cx="7804440" cy="5589720"/>
          </a:xfrm>
          <a:prstGeom prst="rect">
            <a:avLst/>
          </a:prstGeom>
          <a:ln w="0">
            <a:noFill/>
          </a:ln>
        </p:spPr>
      </p:pic>
      <p:pic>
        <p:nvPicPr>
          <p:cNvPr id="883" name="Рисунок 2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3333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9d1c1"/>
                </a:solidFill>
                <a:latin typeface="Trebuchet MS"/>
              </a:rPr>
              <a:t>Наприклад, </a:t>
            </a:r>
            <a:r>
              <a:rPr b="0" lang="uk-UA" sz="2200" spc="-1" strike="noStrike">
                <a:solidFill>
                  <a:srgbClr val="f9d1c1"/>
                </a:solidFill>
                <a:latin typeface="Trebuchet MS"/>
              </a:rPr>
              <a:t>перераховано підприємством з поточного рахунка в банку заборгованість за раніше отриманим кредитом на суму 85 000 грн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85" name="Объект 3" descr=""/>
          <p:cNvPicPr/>
          <p:nvPr/>
        </p:nvPicPr>
        <p:blipFill>
          <a:blip r:embed="rId1"/>
          <a:stretch/>
        </p:blipFill>
        <p:spPr>
          <a:xfrm>
            <a:off x="171360" y="2987640"/>
            <a:ext cx="8624880" cy="2932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Схема 1" descr=""/>
          <p:cNvPicPr/>
          <p:nvPr/>
        </p:nvPicPr>
        <p:blipFill>
          <a:blip r:embed="rId1"/>
          <a:stretch/>
        </p:blipFill>
        <p:spPr>
          <a:xfrm>
            <a:off x="963720" y="762120"/>
            <a:ext cx="7997760" cy="5370480"/>
          </a:xfrm>
          <a:prstGeom prst="rect">
            <a:avLst/>
          </a:prstGeom>
          <a:ln w="0">
            <a:noFill/>
          </a:ln>
        </p:spPr>
      </p:pic>
      <p:pic>
        <p:nvPicPr>
          <p:cNvPr id="887" name="Рисунок 1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3249720" cy="2768400"/>
          </a:xfrm>
          <a:prstGeom prst="rect">
            <a:avLst/>
          </a:prstGeom>
          <a:ln w="0">
            <a:noFill/>
          </a:ln>
        </p:spPr>
      </p:pic>
      <p:pic>
        <p:nvPicPr>
          <p:cNvPr id="888" name="Рисунок 2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Рисунок 1" descr=""/>
          <p:cNvPicPr/>
          <p:nvPr/>
        </p:nvPicPr>
        <p:blipFill>
          <a:blip r:embed="rId1"/>
          <a:stretch/>
        </p:blipFill>
        <p:spPr>
          <a:xfrm>
            <a:off x="4421160" y="0"/>
            <a:ext cx="4722840" cy="2997360"/>
          </a:xfrm>
          <a:prstGeom prst="rect">
            <a:avLst/>
          </a:prstGeom>
          <a:ln w="0">
            <a:noFill/>
          </a:ln>
        </p:spPr>
      </p:pic>
      <p:pic>
        <p:nvPicPr>
          <p:cNvPr id="848" name="Схема 1" descr=""/>
          <p:cNvPicPr/>
          <p:nvPr/>
        </p:nvPicPr>
        <p:blipFill>
          <a:blip r:embed="rId2"/>
          <a:stretch/>
        </p:blipFill>
        <p:spPr>
          <a:xfrm>
            <a:off x="244440" y="2133720"/>
            <a:ext cx="7351920" cy="4608360"/>
          </a:xfrm>
          <a:prstGeom prst="rect">
            <a:avLst/>
          </a:prstGeom>
          <a:ln w="0">
            <a:noFill/>
          </a:ln>
        </p:spPr>
      </p:pic>
      <p:pic>
        <p:nvPicPr>
          <p:cNvPr id="849" name="Рисунок 2" descr=""/>
          <p:cNvPicPr/>
          <p:nvPr/>
        </p:nvPicPr>
        <p:blipFill>
          <a:blip r:embed="rId3"/>
          <a:stretch/>
        </p:blipFill>
        <p:spPr>
          <a:xfrm>
            <a:off x="900000" y="27000"/>
            <a:ext cx="242892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Схема 1" descr=""/>
          <p:cNvPicPr/>
          <p:nvPr/>
        </p:nvPicPr>
        <p:blipFill>
          <a:blip r:embed="rId1"/>
          <a:stretch/>
        </p:blipFill>
        <p:spPr>
          <a:xfrm>
            <a:off x="3029040" y="1914480"/>
            <a:ext cx="5870520" cy="46260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Міжнародний герб бухгалтерів"/>
          <p:cNvPicPr/>
          <p:nvPr/>
        </p:nvPicPr>
        <p:blipFill>
          <a:blip r:embed="rId2"/>
          <a:stretch/>
        </p:blipFill>
        <p:spPr>
          <a:xfrm>
            <a:off x="152280" y="2225520"/>
            <a:ext cx="2859120" cy="4778640"/>
          </a:xfrm>
          <a:prstGeom prst="rect">
            <a:avLst/>
          </a:prstGeom>
          <a:ln w="0">
            <a:noFill/>
          </a:ln>
        </p:spPr>
      </p:pic>
      <p:pic>
        <p:nvPicPr>
          <p:cNvPr id="852" name="Рисунок 2" descr=""/>
          <p:cNvPicPr/>
          <p:nvPr/>
        </p:nvPicPr>
        <p:blipFill>
          <a:blip r:embed="rId3"/>
          <a:stretch/>
        </p:blipFill>
        <p:spPr>
          <a:xfrm>
            <a:off x="2050920" y="0"/>
            <a:ext cx="56055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Схема 1" descr=""/>
          <p:cNvPicPr/>
          <p:nvPr/>
        </p:nvPicPr>
        <p:blipFill>
          <a:blip r:embed="rId1"/>
          <a:stretch/>
        </p:blipFill>
        <p:spPr>
          <a:xfrm>
            <a:off x="176040" y="469800"/>
            <a:ext cx="6913800" cy="6205680"/>
          </a:xfrm>
          <a:prstGeom prst="rect">
            <a:avLst/>
          </a:prstGeom>
          <a:ln w="0">
            <a:noFill/>
          </a:ln>
        </p:spPr>
      </p:pic>
      <p:pic>
        <p:nvPicPr>
          <p:cNvPr id="854" name="Рисунок 1" descr=""/>
          <p:cNvPicPr/>
          <p:nvPr/>
        </p:nvPicPr>
        <p:blipFill>
          <a:blip r:embed="rId2"/>
          <a:stretch/>
        </p:blipFill>
        <p:spPr>
          <a:xfrm>
            <a:off x="6084720" y="2954160"/>
            <a:ext cx="288000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4" descr="Картинки по запросу Картинки стаття бухгалтерського балансу"/>
          <p:cNvPicPr/>
          <p:nvPr/>
        </p:nvPicPr>
        <p:blipFill>
          <a:blip r:embed="rId1"/>
          <a:stretch/>
        </p:blipFill>
        <p:spPr>
          <a:xfrm>
            <a:off x="4680" y="3240"/>
            <a:ext cx="2428920" cy="1879560"/>
          </a:xfrm>
          <a:prstGeom prst="rect">
            <a:avLst/>
          </a:prstGeom>
          <a:ln w="0">
            <a:noFill/>
          </a:ln>
        </p:spPr>
      </p:pic>
      <p:pic>
        <p:nvPicPr>
          <p:cNvPr id="856" name="Схема 1" descr=""/>
          <p:cNvPicPr/>
          <p:nvPr/>
        </p:nvPicPr>
        <p:blipFill>
          <a:blip r:embed="rId2"/>
          <a:stretch/>
        </p:blipFill>
        <p:spPr>
          <a:xfrm>
            <a:off x="901800" y="1841400"/>
            <a:ext cx="8066160" cy="4761000"/>
          </a:xfrm>
          <a:prstGeom prst="rect">
            <a:avLst/>
          </a:prstGeom>
          <a:ln w="0">
            <a:noFill/>
          </a:ln>
        </p:spPr>
      </p:pic>
      <p:pic>
        <p:nvPicPr>
          <p:cNvPr id="857" name="Рисунок 2" descr=""/>
          <p:cNvPicPr/>
          <p:nvPr/>
        </p:nvPicPr>
        <p:blipFill>
          <a:blip r:embed="rId3"/>
          <a:stretch/>
        </p:blipFill>
        <p:spPr>
          <a:xfrm>
            <a:off x="7920" y="4076640"/>
            <a:ext cx="250524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gradFill rotWithShape="0">
            <a:gsLst>
              <a:gs pos="0">
                <a:srgbClr val="fefaf3"/>
              </a:gs>
              <a:gs pos="100000">
                <a:srgbClr val="fadfb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rebuchet MS"/>
              </a:rPr>
              <a:t>                    </a:t>
            </a:r>
            <a:r>
              <a:rPr b="0" lang="uk-UA" sz="2400" spc="-1" strike="noStrike">
                <a:solidFill>
                  <a:srgbClr val="786b3c"/>
                </a:solidFill>
                <a:latin typeface="Trebuchet MS"/>
              </a:rPr>
              <a:t>БАЛАНС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b9955"/>
                </a:solidFill>
                <a:latin typeface="Trebuchet MS"/>
              </a:rPr>
              <a:t>Актив                                        Пасив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539640" y="3860640"/>
          <a:ext cx="8136000" cy="2133720"/>
        </p:xfrm>
        <a:graphic>
          <a:graphicData uri="http://schemas.openxmlformats.org/drawingml/2006/table">
            <a:tbl>
              <a:tblPr/>
              <a:tblGrid>
                <a:gridCol w="3095640"/>
                <a:gridCol w="1008000"/>
                <a:gridCol w="2953080"/>
                <a:gridCol w="10792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37210"/>
                          </a:solidFill>
                          <a:latin typeface="Tahoma"/>
                        </a:rPr>
                        <a:t>Склад </a:t>
                      </a:r>
                      <a:r>
                        <a:rPr b="0" lang="uk-UA" sz="2400" spc="-1" strike="noStrike">
                          <a:solidFill>
                            <a:srgbClr val="237210"/>
                          </a:solidFill>
                          <a:latin typeface="Tahoma"/>
                        </a:rPr>
                        <a:t>і розміщення господарських засобі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4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37210"/>
                          </a:solidFill>
                          <a:latin typeface="Tahoma"/>
                        </a:rPr>
                        <a:t>Су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4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237210"/>
                          </a:solidFill>
                          <a:latin typeface="Tahoma"/>
                        </a:rPr>
                        <a:t>Джерела утворення господарських засобі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4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37210"/>
                          </a:solidFill>
                          <a:latin typeface="Tahoma"/>
                        </a:rPr>
                        <a:t>Су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4a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9d4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9d4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9d4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9d4a1"/>
                    </a:solidFill>
                  </a:tcPr>
                </a:tc>
              </a:tr>
            </a:tbl>
          </a:graphicData>
        </a:graphic>
      </p:graphicFrame>
      <p:pic>
        <p:nvPicPr>
          <p:cNvPr id="8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2243160" cy="1682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Схема 1" descr=""/>
          <p:cNvPicPr/>
          <p:nvPr/>
        </p:nvPicPr>
        <p:blipFill>
          <a:blip r:embed="rId1"/>
          <a:stretch/>
        </p:blipFill>
        <p:spPr>
          <a:xfrm>
            <a:off x="195120" y="596880"/>
            <a:ext cx="8650440" cy="6168960"/>
          </a:xfrm>
          <a:prstGeom prst="rect">
            <a:avLst/>
          </a:prstGeom>
          <a:ln w="0">
            <a:noFill/>
          </a:ln>
        </p:spPr>
      </p:pic>
      <p:pic>
        <p:nvPicPr>
          <p:cNvPr id="862" name="Рисунок 3" descr=""/>
          <p:cNvPicPr/>
          <p:nvPr/>
        </p:nvPicPr>
        <p:blipFill>
          <a:blip r:embed="rId2"/>
          <a:stretch/>
        </p:blipFill>
        <p:spPr>
          <a:xfrm>
            <a:off x="5151600" y="706320"/>
            <a:ext cx="1938240" cy="3810240"/>
          </a:xfrm>
          <a:prstGeom prst="rect">
            <a:avLst/>
          </a:prstGeom>
          <a:ln w="0">
            <a:noFill/>
          </a:ln>
        </p:spPr>
      </p:pic>
      <p:pic>
        <p:nvPicPr>
          <p:cNvPr id="863" name="Рисунок 4" descr=""/>
          <p:cNvPicPr/>
          <p:nvPr/>
        </p:nvPicPr>
        <p:blipFill>
          <a:blip r:embed="rId3"/>
          <a:stretch/>
        </p:blipFill>
        <p:spPr>
          <a:xfrm>
            <a:off x="5364000" y="5084640"/>
            <a:ext cx="335304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9d1c1"/>
                </a:solidFill>
                <a:latin typeface="Trebuchet MS"/>
              </a:rPr>
              <a:t>Діючий баланс підприємства має такі форму і структур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457200" y="1808280"/>
          <a:ext cx="8291520" cy="4541760"/>
        </p:xfrm>
        <a:graphic>
          <a:graphicData uri="http://schemas.openxmlformats.org/drawingml/2006/table">
            <a:tbl>
              <a:tblPr/>
              <a:tblGrid>
                <a:gridCol w="1019160"/>
                <a:gridCol w="3095640"/>
                <a:gridCol w="1008000"/>
                <a:gridCol w="3168720"/>
              </a:tblGrid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Акт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e1b07"/>
                          </a:solidFill>
                          <a:latin typeface="Tahoma"/>
                        </a:rPr>
                        <a:t>Пас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№ </a:t>
                      </a: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роз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ді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0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Назва розді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0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№ </a:t>
                      </a: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роз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ді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0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Назва розді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0e1"/>
                    </a:solidFill>
                  </a:tcPr>
                </a:tc>
              </a:tr>
              <a:tr h="314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3f0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Необоротні акти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Оборотні акти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Витрати майбутніх період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3f0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3f0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Власний капі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Забезпечення наступних витрат і платеж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Довгострокові зобов'яз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Поточні зобов'яз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86b3c"/>
                          </a:solidFill>
                          <a:latin typeface="Tahoma"/>
                        </a:rPr>
                        <a:t>Доходи майбутніх період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3f0e1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Рисунок 2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3857760" cy="1181160"/>
          </a:xfrm>
          <a:prstGeom prst="rect">
            <a:avLst/>
          </a:prstGeom>
          <a:ln w="0">
            <a:noFill/>
          </a:ln>
        </p:spPr>
      </p:pic>
      <p:pic>
        <p:nvPicPr>
          <p:cNvPr id="867" name="Схема 1" descr=""/>
          <p:cNvPicPr/>
          <p:nvPr/>
        </p:nvPicPr>
        <p:blipFill>
          <a:blip r:embed="rId2"/>
          <a:stretch/>
        </p:blipFill>
        <p:spPr>
          <a:xfrm>
            <a:off x="469800" y="1768320"/>
            <a:ext cx="8485200" cy="437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7:02:47Z</dcterms:created>
  <dc:creator>one</dc:creator>
  <dc:description/>
  <dc:language>en-US</dc:language>
  <cp:lastModifiedBy>Пользователь</cp:lastModifiedBy>
  <dcterms:modified xsi:type="dcterms:W3CDTF">2021-10-05T09:09:39Z</dcterms:modified>
  <cp:revision>78</cp:revision>
  <dc:subject/>
  <dc:title>222222</dc:title>
</cp:coreProperties>
</file>